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BEC-92B9-4DBA-B1F6-F63A6E6D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DAD-5557-40D7-A1B1-347F0BDB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764-347F-458D-A9BF-81B82745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3BA-4680-444A-8708-A189302B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C6B-AAFA-4D3C-BFBA-C35C920E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D06F-9C5A-4116-A4EF-3F340BDA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246-E456-4C58-8B18-57882D3B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CBA4-7882-4A84-831D-ED47ED69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7DC-6EC7-47FC-8F07-5BAF2F4B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F746-612E-41B6-86E6-C6BB3546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C2D7-D623-423F-A040-329B8B73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6637-69F4-4B09-8328-7F250FAA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EDC7-8DB7-4263-BD06-09C4DEF22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factmonster.com/atlas/country/jordan.html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200400" y="990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or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ome of  Am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80880" y="380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p of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867280" y="457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p of reg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057400" y="2514600"/>
            <a:ext cx="426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overnment: Constitution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ditary monar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pital:  Am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anguage: Arabic/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eligions: Islam92% Christian6% other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iteracy Rate: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atural Resources: phosphates, potash, shale,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Flag of Jordan"/>
          <p:cNvPicPr/>
          <p:nvPr/>
        </p:nvPicPr>
        <p:blipFill>
          <a:blip r:embed="rId2"/>
          <a:stretch/>
        </p:blipFill>
        <p:spPr>
          <a:xfrm>
            <a:off x="0" y="5153040"/>
            <a:ext cx="4800600" cy="170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Map of Jorda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0"/>
            <a:ext cx="3276720" cy="2895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Map of Jordan, Middle Eastern Countries"/>
          <p:cNvPicPr/>
          <p:nvPr/>
        </p:nvPicPr>
        <p:blipFill>
          <a:blip r:embed="rId5"/>
          <a:srcRect l="58115" t="54772" r="30917" b="26195"/>
          <a:stretch/>
        </p:blipFill>
        <p:spPr>
          <a:xfrm>
            <a:off x="5334120" y="0"/>
            <a:ext cx="3809880" cy="2604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http://www.google.com/url?source=imglanding&amp;ct=img&amp;q=http://upload.wikimedia.org/wikipedia/commons/thumb/9/9c/JordanIslam.png/120px-JordanIslam.png&amp;sa=X&amp;ei=nlmwTuvbNqGhsQKz55CtAQ&amp;ved=0CAsQ8wc&amp;usg=AFQjCNGE3s9kLh2uZwp8bbkkr0ZxDC1sRg"/>
          <p:cNvPicPr/>
          <p:nvPr/>
        </p:nvPicPr>
        <p:blipFill>
          <a:blip r:embed="rId6"/>
          <a:stretch/>
        </p:blipFill>
        <p:spPr>
          <a:xfrm>
            <a:off x="228600" y="3124080"/>
            <a:ext cx="2019240" cy="1219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1" descr="http://www.google.com/url?source=imglanding&amp;ct=img&amp;q=http://wwwdelivery.superstock.com/WI/223/1792/PreviewComp/SuperStock_1792-97605.jpg&amp;sa=X&amp;ei=fVqwTuS2FqqFsALJueTIAQ&amp;ved=0CAsQ8wc4SA&amp;usg=AFQjCNFr21n8DZj7VZFkGQQI4NxvRMKHLg"/>
          <p:cNvPicPr/>
          <p:nvPr/>
        </p:nvPicPr>
        <p:blipFill>
          <a:blip r:embed="rId7"/>
          <a:stretch/>
        </p:blipFill>
        <p:spPr>
          <a:xfrm>
            <a:off x="6095880" y="25909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1"/>
          <p:cNvSpPr/>
          <p:nvPr/>
        </p:nvSpPr>
        <p:spPr>
          <a:xfrm>
            <a:off x="0" y="4572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scent and sta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791320" y="61498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nathan 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6172200" y="5257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 being bapt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BHISD</cp:lastModifiedBy>
  <dcterms:modified xsi:type="dcterms:W3CDTF">2011-11-08T20:59:48Z</dcterms:modified>
  <cp:revision>22</cp:revision>
  <dc:subject/>
  <dc:title>Slide 1</dc:title>
</cp:coreProperties>
</file>